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wmf" ContentType="image/x-wmf"/>
  <Override PartName="/ppt/media/image40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2151-D30F-400B-99F8-AB777D6E7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706D-790D-4C1F-BA4C-A233A0A72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38FB-B2C8-448E-8951-2A8982694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EE21-0E1B-472B-B725-70CC4A55F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08FB-6CC4-4CEC-8AF5-C14F003EF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66E5-3A24-4CC4-9CD3-25D7C8E80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27CE-E39F-4512-951B-F47ACBDBA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E36A-EB04-423B-AADA-8EFB89AF6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1100-2181-4B52-9AA1-38190A32A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1C3F-F446-498E-AC33-DA1CEE476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4FF0-1872-4164-A0E6-AEA017CF6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38A5-C090-4ABB-89DB-0981FFBDC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4" descr="other logo for powerpoint"/>
          <p:cNvPicPr/>
          <p:nvPr/>
        </p:nvPicPr>
        <p:blipFill>
          <a:blip r:embed="rId2"/>
          <a:stretch/>
        </p:blipFill>
        <p:spPr>
          <a:xfrm>
            <a:off x="1219320" y="2819520"/>
            <a:ext cx="212076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F0E-C38E-483B-A344-9FF38747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97" descr="oxford logo4"/>
          <p:cNvPicPr/>
          <p:nvPr/>
        </p:nvPicPr>
        <p:blipFill>
          <a:blip r:embed="rId4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alibri"/>
              </a:rPr>
              <a:t>Chapter #10: </a:t>
            </a:r>
            <a:r>
              <a:rPr b="0" lang="en-US" sz="5400" spc="-1" strike="noStrike">
                <a:solidFill>
                  <a:srgbClr val="3333ff"/>
                </a:solidFill>
                <a:latin typeface="Calibri"/>
              </a:rPr>
              <a:t>Feedback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me Properties of Negative Feedbac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1. Gain De-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0.8) and (10.9) def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-sensitivity factor of (1+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2. Bandwidth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tions (10.10) through (10.13) demonstrate how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frequencies may be shif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ia negative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e10F03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005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F"/>
          <p:cNvPicPr/>
          <p:nvPr/>
        </p:nvPicPr>
        <p:blipFill>
          <a:blip r:embed="rId2"/>
          <a:stretch/>
        </p:blipFill>
        <p:spPr>
          <a:xfrm>
            <a:off x="228600" y="6211800"/>
            <a:ext cx="8534520" cy="42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me Properties of Negative Feedbac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3. Interference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-to-interference ratio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tions (10.14) through (10.1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 thi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supply h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.2.4. Reduction in Nonlinear Dist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feedback may facilit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ar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se10F04"/>
          <p:cNvPicPr/>
          <p:nvPr/>
        </p:nvPicPr>
        <p:blipFill>
          <a:blip r:embed="rId1"/>
          <a:stretch/>
        </p:blipFill>
        <p:spPr>
          <a:xfrm>
            <a:off x="1447920" y="228600"/>
            <a:ext cx="6172200" cy="561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lustrating the application of negative feedback to improve the signal-to-interference ratio in amplif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e10F05"/>
          <p:cNvPicPr/>
          <p:nvPr/>
        </p:nvPicPr>
        <p:blipFill>
          <a:blip r:embed="rId1"/>
          <a:stretch/>
        </p:blipFill>
        <p:spPr>
          <a:xfrm>
            <a:off x="228600" y="731880"/>
            <a:ext cx="8610480" cy="505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F"/>
          <p:cNvPicPr/>
          <p:nvPr/>
        </p:nvPicPr>
        <p:blipFill>
          <a:blip r:embed="rId2"/>
          <a:stretch/>
        </p:blipFill>
        <p:spPr>
          <a:xfrm>
            <a:off x="228600" y="6056280"/>
            <a:ext cx="86104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Four Basic Feedback Topologi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1. Voltag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2. Current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3. Trans-conductanc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4. Trans-resistance Ampl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 input voltage and yield output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C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mixing / voltage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 topology most suitable for voltage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eries-shunt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input resistance/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se10F06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4878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diagram of a feedback voltage amplifier. Here the appropriate feedback topology is series–sh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input resistance results beca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btracts fro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sulting in smaller signal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t th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current to be smal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effects higher in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utput resistance results because feedback works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eep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s constant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 / vary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effects lower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se10F07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9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28600" y="59436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7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a feedback voltage amplifier. All these circuits employ series–shunt feedback. Note that the dc bias circuits are only partially show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IS CHAPTER YOU WILL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eneral struc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negative-feedback amplifier and the basic principle that underlies its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dvantages of negative feedba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ow these come about, and at what c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ppropriate feedback topology to employ with each of the four amplifier type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oltage, current, trans-conductance, and trans-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and how negative-feedback amplifier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y be unstable (i.e. oscillat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how to design the circuit to ensure stable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urrent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current to generate output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C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rton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-mixing / current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current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hunt-series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high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lock diagram of a feedback current amplifier. Here, the appropriate feedback topology is the shunt–series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xample of a feedback current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se10F08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3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conducta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conducta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voltage and generates output cur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C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rton Sourc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-mixing / current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transconductance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eries-series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high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0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diagram of a feedback transconductance amplifier. Here, the appropriate feedback topology is series–serie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ample of a feedback transconductance amplifier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other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se10F10"/>
          <p:cNvPicPr/>
          <p:nvPr/>
        </p:nvPicPr>
        <p:blipFill>
          <a:blip r:embed="rId1"/>
          <a:stretch/>
        </p:blipFill>
        <p:spPr>
          <a:xfrm>
            <a:off x="2133720" y="228600"/>
            <a:ext cx="6629400" cy="531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3.4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ransresistance Amplifier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resistanc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ccepts input current and generates output vol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C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Sourc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urrent-mixing / voltage-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opology is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itable for current 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so known a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hunt-shunt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resistance/low output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2860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lock diagram of a feedback transresistance amplifier. Here, the appropriate feedback topology is shunt–shunt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and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xamples of  feedback transresistance amplif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e10F11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33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Voltag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ries-shunt is appropriate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voltag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lateral open-loop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circui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 Voltage-Sampling, voltage-mixing feedback networ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ircu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Circuit Gai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ries–shunt feedback amplifier: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;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se10F12"/>
          <p:cNvPicPr/>
          <p:nvPr/>
        </p:nvPicPr>
        <p:blipFill>
          <a:blip r:embed="rId1"/>
          <a:stretch/>
        </p:blipFill>
        <p:spPr>
          <a:xfrm>
            <a:off x="152280" y="2065320"/>
            <a:ext cx="876312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447920" y="1981080"/>
          <a:ext cx="612432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1243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860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3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the output resistance of the feedback amplifier of Fig. 10.12(a)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se10F13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3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hysical syste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orporate some sort of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ory of negative feedback was develop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ical engine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rold Bl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Western Electric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can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(degenerative) or positive (regenerativ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Practic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ractical case, feedback networ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not be id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CV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ually, it is resistive and wi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ad th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load resistanc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a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load resistanc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uld be lum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basic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ed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-port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se10F14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419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F"/>
          <p:cNvPicPr/>
          <p:nvPr/>
        </p:nvPicPr>
        <p:blipFill>
          <a:blip r:embed="rId2"/>
          <a:stretch/>
        </p:blipFill>
        <p:spPr>
          <a:xfrm>
            <a:off x="228600" y="6113520"/>
            <a:ext cx="868680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se10F15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6464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1" descr="F"/>
          <p:cNvPicPr/>
          <p:nvPr/>
        </p:nvPicPr>
        <p:blipFill>
          <a:blip r:embed="rId2"/>
          <a:stretch/>
        </p:blipFill>
        <p:spPr>
          <a:xfrm>
            <a:off x="-203040" y="228600"/>
            <a:ext cx="73656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re the input and output resis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respectively, of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in Figure 10.15(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input and output resistances, respectively, of the feedback amplifier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luding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(see Figure 10.14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The actual input and output resistances of the feedback amplifi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clud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se are deno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Figure 10.14(a) and can be determined via equations (10.25) and (10.2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Transconductan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se10F18"/>
          <p:cNvPicPr/>
          <p:nvPr/>
        </p:nvPicPr>
        <p:blipFill>
          <a:blip r:embed="rId1"/>
          <a:stretch/>
        </p:blipFill>
        <p:spPr>
          <a:xfrm>
            <a:off x="4876920" y="2133720"/>
            <a:ext cx="396216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04920" y="38098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0.1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ries–series feedback amplifier: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deal structure;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quivalent circu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se10F21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628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F"/>
          <p:cNvPicPr/>
          <p:nvPr/>
        </p:nvPicPr>
        <p:blipFill>
          <a:blip r:embed="rId2"/>
          <a:stretch/>
        </p:blipFill>
        <p:spPr>
          <a:xfrm>
            <a:off x="225360" y="152280"/>
            <a:ext cx="231840" cy="6629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838080" y="304920"/>
            <a:ext cx="7391520" cy="6248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Transresistanc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38098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2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 for the shunt–shunt feedback amplifier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 of the amplifier in (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se10F24"/>
          <p:cNvPicPr/>
          <p:nvPr/>
        </p:nvPicPr>
        <p:blipFill>
          <a:blip r:embed="rId1"/>
          <a:stretch/>
        </p:blipFill>
        <p:spPr>
          <a:xfrm>
            <a:off x="4738680" y="1295280"/>
            <a:ext cx="42242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838080" y="304920"/>
            <a:ext cx="7391520" cy="6248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se10F26"/>
          <p:cNvPicPr/>
          <p:nvPr/>
        </p:nvPicPr>
        <p:blipFill>
          <a:blip r:embed="rId1"/>
          <a:stretch/>
        </p:blipFill>
        <p:spPr>
          <a:xfrm>
            <a:off x="762120" y="347760"/>
            <a:ext cx="7696080" cy="6053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762120" y="380880"/>
            <a:ext cx="7696080" cy="6019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6" descr="F"/>
          <p:cNvPicPr/>
          <p:nvPr/>
        </p:nvPicPr>
        <p:blipFill>
          <a:blip r:embed="rId2"/>
          <a:stretch/>
        </p:blipFill>
        <p:spPr>
          <a:xfrm>
            <a:off x="228600" y="380880"/>
            <a:ext cx="18576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7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Feedback Current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38098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28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deal structure for the shunt–series feedback amplifier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Equivalent circuit of the amplifier i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se10F28"/>
          <p:cNvPicPr/>
          <p:nvPr/>
        </p:nvPicPr>
        <p:blipFill>
          <a:blip r:embed="rId1"/>
          <a:stretch/>
        </p:blipFill>
        <p:spPr>
          <a:xfrm>
            <a:off x="4572000" y="1905120"/>
            <a:ext cx="4448160" cy="48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62120" y="228600"/>
            <a:ext cx="7467480" cy="6477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se10F30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21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609480" y="380880"/>
            <a:ext cx="7848720" cy="6019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F"/>
          <p:cNvPicPr/>
          <p:nvPr/>
        </p:nvPicPr>
        <p:blipFill>
          <a:blip r:embed="rId2"/>
          <a:stretch/>
        </p:blipFill>
        <p:spPr>
          <a:xfrm>
            <a:off x="154080" y="228600"/>
            <a:ext cx="303120" cy="638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may be us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sensit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nonlinea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he effect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res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haracteristics result, however,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ss of 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basic idea of negative feedback is to trade-off gain for other desirable propertie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8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mmary of Feedback Analysis Metho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begin analysis b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termining an approximate value for the closed-loop ga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that loop ga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l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should serve fo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inal che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unt conn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input or output will always result in reducing the corresponding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tilizing negative feedback to improve the properties of an amplifier under design, the starting point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ection of feedback top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back factor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may be determined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/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9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termining Loop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 rot="5460000">
            <a:off x="2124000" y="-161640"/>
            <a:ext cx="4894200" cy="91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Stability Problem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feedback amplifier, the open loop gain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enerally a function of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should be called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open-loop transfer function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ig question i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happens to gain at higher frequenc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has huge implications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tability of the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85800" y="2819520"/>
          <a:ext cx="7696080" cy="30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69608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yquist Plo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se10F34"/>
          <p:cNvPicPr/>
          <p:nvPr/>
        </p:nvPicPr>
        <p:blipFill>
          <a:blip r:embed="rId1"/>
          <a:stretch/>
        </p:blipFill>
        <p:spPr>
          <a:xfrm>
            <a:off x="3581280" y="2057400"/>
            <a:ext cx="5410440" cy="4726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228600" y="38098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yquist plot of an unstable amplif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114800" y="0"/>
            <a:ext cx="502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76320" y="1905120"/>
            <a:ext cx="464796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353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eedback on the Amplifier Poles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se10F35"/>
          <p:cNvPicPr/>
          <p:nvPr/>
        </p:nvPicPr>
        <p:blipFill>
          <a:blip r:embed="rId1"/>
          <a:stretch/>
        </p:blipFill>
        <p:spPr>
          <a:xfrm>
            <a:off x="4249800" y="676440"/>
            <a:ext cx="4771800" cy="5800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228600" y="387036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between pole location and transient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deal C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152280" y="2171880"/>
          <a:ext cx="88218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71880"/>
                    <a:ext cx="88218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1981080"/>
            <a:ext cx="4648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3530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ffect of Feedback on the Amplifier Poles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se10F36"/>
          <p:cNvPicPr/>
          <p:nvPr/>
        </p:nvPicPr>
        <p:blipFill>
          <a:blip r:embed="rId1"/>
          <a:stretch/>
        </p:blipFill>
        <p:spPr>
          <a:xfrm>
            <a:off x="384120" y="2185920"/>
            <a:ext cx="8379000" cy="3681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36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 of feedback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ole location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frequency response of an amplifier having a single-pole, open-loop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tability Study Using Bode Plo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2057400"/>
            <a:ext cx="4572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" descr="se10F42"/>
          <p:cNvPicPr/>
          <p:nvPr/>
        </p:nvPicPr>
        <p:blipFill>
          <a:blip r:embed="rId1"/>
          <a:stretch/>
        </p:blipFill>
        <p:spPr>
          <a:xfrm>
            <a:off x="2209680" y="2057400"/>
            <a:ext cx="4724640" cy="461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"/>
          <p:cNvPicPr/>
          <p:nvPr/>
        </p:nvPicPr>
        <p:blipFill>
          <a:blip r:embed="rId2"/>
          <a:stretch/>
        </p:blipFill>
        <p:spPr>
          <a:xfrm>
            <a:off x="109440" y="2057400"/>
            <a:ext cx="271440" cy="460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feedback is employed to make the amplifier gain less sensitive to component variations; to control input and output impedances; to extend bandwidth; to reduce nonlinear distortion; and to enhance signal-to-interference rat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vantages above are obtained at the expense of a reduction in gain and at the risk of the amplifier becoming unstable (that is, oscillating).  The latter problem is solved by careful desig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four basic types of amplifier, there is an appropriate feedback topology.  The four topologies, together with their analysis procedures, are summarized in Table 10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certain conditions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 can be come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scil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ositive feedbac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ways lead to in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enerative feedback has a number of applications – specifically,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tive filt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eedback parameter are the loop gain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which for negative feedback must be a positive dimensionless number, and the amount of feedback (1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 The latter directly determines gain reduction, gain desensitivity, bandwidth extension, and changes in input and output resist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in general frequency dependent, the poles of the feedback amplifier are obtained by solving the characteristic equation 1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feedback amplifier to be stable, its poles must all be in the left-hand side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pl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ility is guaranteed if at the frequency for which the phase ang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is less than unity; the amount by which it is less than unity, expressed in decibels, is the gain margin.  Alternatively, the amplifier is stable if, at the frequency at which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= 1, the phase angle is less than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difference ifs the phase marg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bility of a feedback amplifier can be analyzed by constructing a Bode plot for |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 and superimposing it on a plot for 1/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.  Stability is guaranteed if the two plots intersect with a difference in slope no greater than 6dB/dec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a given amplifier stable for a given feedback factor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open-loop frequency response is suitably modified by a process known as frequency compens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pular method for frequency compensation involves connecting a feedback capacitor across an inverting stage in the amplifier.  This causes the pole formed at the input of the amplifier stage to shift to a lower frequency and thus become dominant, while the pole formed at the output of the amplifier stage is moved to a very high frequency and thus becomes unimportant.  This process is known as pole split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2057400"/>
            <a:ext cx="54100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0.1. shows the basic structure of a feedback amplifier –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-flow dia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-l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plifier has ga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e10F01"/>
          <p:cNvPicPr/>
          <p:nvPr/>
        </p:nvPicPr>
        <p:blipFill>
          <a:blip r:embed="rId1"/>
          <a:stretch/>
        </p:blipFill>
        <p:spPr>
          <a:xfrm>
            <a:off x="1219320" y="3809880"/>
            <a:ext cx="6629400" cy="2035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52280" y="6004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10.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structure of the feedback amplifier. This is a signal-flow diagram, and the quantiti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 either voltage or current sig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utput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fed to load as well as feedback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eedback factor (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s feedback sign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eedback signal 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btracted from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haracteriz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gative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of feedback amplifier is defined i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10.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(10.4)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pproximated at 1/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uch, gain of feedback amplifier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most entirely determined by feedback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914400" y="2147760"/>
          <a:ext cx="727704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47760"/>
                    <a:ext cx="727704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e College of New Jersey (TCNJ) – ELC251 Electronics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http://anthony.deese.googlepage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ased on Textbook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croelectronic Circuits by Adel S. Sedra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981080"/>
            <a:ext cx="4952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General Feedback Structur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295280" y="2286000"/>
          <a:ext cx="630720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30720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7"/>
          <p:cNvSpPr/>
          <p:nvPr/>
        </p:nvSpPr>
        <p:spPr>
          <a:xfrm>
            <a:off x="5105520" y="260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tions (10.1) through (10.3) may be obtained from (10.6) and (10.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4-23T16:05:53Z</dcterms:modified>
  <cp:revision>399</cp:revision>
  <dc:subject/>
  <dc:title>Slide 1</dc:title>
</cp:coreProperties>
</file>